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DE6A-F334-4102-9F4E-50B5D5C1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7E79-93FA-411B-BE5C-A42C3E30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1150-093F-44DA-8DC2-975D57FD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1F73-41AE-4C5A-B143-A847A227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48C0-5A8B-4B53-960C-A0F29AE9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2734-C9D9-408E-B1CE-7747AD55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7460-17EF-41A1-9C1E-A1E48C9C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C795-726E-4462-A98B-356D7A12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66E4-71BE-4ECF-8366-FAB6CAF8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72D-0B59-4445-A0DA-340893B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8679-13F7-42A9-9CBF-2381AA9D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D675-1768-4B12-AE69-881B973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CE90-3BED-4B39-A17D-54359E5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3AFC-A491-4D04-929B-541287E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591F-99FF-47D3-B3B7-389869C0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637-A6B3-45F2-BC2E-02998F5C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72BB-2C0A-4BB1-B519-BC25DB05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3D00-B16C-4EDC-BB4A-71274A9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4147-83B0-41E0-ADFD-6569E58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30C2-D81E-4189-B2D6-80B7AAE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23FB-6C51-48D9-866F-3F7DA44C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99EB-5E5C-45BB-82C9-494C3D2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6C33-A294-4C78-BBD0-E10369A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D4A4-501F-4B95-B69E-60CA6825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6F5-6A6B-4994-8D16-43932F96674E}" type="slidenum">
              <a:rPr b="0" lang="en-GB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7F8-84AD-44B4-A467-A474619E9462}" type="slidenum">
              <a:rPr b="0" lang="en-GB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rtnell.edu/tutorials/biology/tissues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Levels of organis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ells   Tissues   Organs    Organ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92360" y="4221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148360" y="4221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692360" y="4221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Specialisation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ertain cells become specialised in order to carry out specific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ot hair cells in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rve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p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her cells remain undifferentia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renchyma in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em cells in an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sperm"/>
          <p:cNvPicPr/>
          <p:nvPr/>
        </p:nvPicPr>
        <p:blipFill>
          <a:blip r:embed="rId1"/>
          <a:stretch/>
        </p:blipFill>
        <p:spPr>
          <a:xfrm>
            <a:off x="155520" y="46080"/>
            <a:ext cx="2962440" cy="4219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neuron"/>
          <p:cNvPicPr/>
          <p:nvPr/>
        </p:nvPicPr>
        <p:blipFill>
          <a:blip r:embed="rId2"/>
          <a:stretch/>
        </p:blipFill>
        <p:spPr>
          <a:xfrm>
            <a:off x="4427640" y="189000"/>
            <a:ext cx="3960720" cy="249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plant_root_cell"/>
          <p:cNvPicPr/>
          <p:nvPr/>
        </p:nvPicPr>
        <p:blipFill>
          <a:blip r:embed="rId3"/>
          <a:stretch/>
        </p:blipFill>
        <p:spPr>
          <a:xfrm>
            <a:off x="3492360" y="3573360"/>
            <a:ext cx="4915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Tissu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pecialised cells that are similar in structure to each other and work together to perform a common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ylem and phloem tissue in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thelial, muscl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ous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ve tissue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tissue-types-picture"/>
          <p:cNvPicPr/>
          <p:nvPr/>
        </p:nvPicPr>
        <p:blipFill>
          <a:blip r:embed="rId2"/>
          <a:stretch/>
        </p:blipFill>
        <p:spPr>
          <a:xfrm>
            <a:off x="5580000" y="4125960"/>
            <a:ext cx="3414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cuboidal2"/>
          <p:cNvPicPr/>
          <p:nvPr/>
        </p:nvPicPr>
        <p:blipFill>
          <a:blip r:embed="rId1"/>
          <a:stretch/>
        </p:blipFill>
        <p:spPr>
          <a:xfrm>
            <a:off x="611280" y="260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4911840" y="492120"/>
            <a:ext cx="423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Each cell is a cuboidal epithelium ce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hese cells have the same structure and work together to form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uboidal epithelium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(convoluted tubule in the kidne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image002"/>
          <p:cNvPicPr/>
          <p:nvPr/>
        </p:nvPicPr>
        <p:blipFill>
          <a:blip r:embed="rId2"/>
          <a:stretch/>
        </p:blipFill>
        <p:spPr>
          <a:xfrm>
            <a:off x="4211640" y="3789360"/>
            <a:ext cx="4743360" cy="2895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539640" y="4653000"/>
            <a:ext cx="318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Each cell is a ciliated epithelium cell. These cells have the same structure and work together to form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iliated epithelium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(the bronch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356280" y="321300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Different types of epithelial t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Different types of muscle tissu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5" descr="smooth%20muscle%2040xweb"/>
          <p:cNvPicPr/>
          <p:nvPr/>
        </p:nvPicPr>
        <p:blipFill>
          <a:blip r:embed="rId1"/>
          <a:stretch/>
        </p:blipFill>
        <p:spPr>
          <a:xfrm>
            <a:off x="468360" y="1557360"/>
            <a:ext cx="392436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638600" y="1700280"/>
            <a:ext cx="29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Smooth muscle that lin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Arteries and ve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he g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he breathing syst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9" descr="skelmuscle"/>
          <p:cNvPicPr/>
          <p:nvPr/>
        </p:nvPicPr>
        <p:blipFill>
          <a:blip r:embed="rId2"/>
          <a:stretch/>
        </p:blipFill>
        <p:spPr>
          <a:xfrm>
            <a:off x="4932360" y="3645000"/>
            <a:ext cx="4048200" cy="2847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1388880" y="5445000"/>
            <a:ext cx="35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Striated muscle that is found i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Skeletal musc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ardiac musc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onnective tissu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5" descr="mtj040v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476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4624560" y="2076480"/>
            <a:ext cx="383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ollagen fibres are tough and create part of connective tiss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endons consist of collagen fibres embedded in a matrix of cell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Orga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collection of tissues working together to perform a particular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eaves of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ver in an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lobulep295"/>
          <p:cNvPicPr/>
          <p:nvPr/>
        </p:nvPicPr>
        <p:blipFill>
          <a:blip r:embed="rId1"/>
          <a:stretch/>
        </p:blipFill>
        <p:spPr>
          <a:xfrm>
            <a:off x="5651640" y="2781360"/>
            <a:ext cx="3004920" cy="3763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mg0002art05"/>
          <p:cNvPicPr/>
          <p:nvPr/>
        </p:nvPicPr>
        <p:blipFill>
          <a:blip r:embed="rId2"/>
          <a:stretch/>
        </p:blipFill>
        <p:spPr>
          <a:xfrm>
            <a:off x="539640" y="371628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Organ syst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organ system consists of a number of organs working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productiv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creto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seven body systems, what are the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 the organs found in these body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2:27Z</dcterms:created>
  <dc:creator>Karen Wright</dc:creator>
  <dc:description/>
  <dc:language>en-US</dc:language>
  <cp:lastModifiedBy>Sarah Preston</cp:lastModifiedBy>
  <dcterms:modified xsi:type="dcterms:W3CDTF">2014-09-09T08:00:22Z</dcterms:modified>
  <cp:revision>9</cp:revision>
  <dc:subject/>
  <dc:title>Levels of organisation</dc:title>
</cp:coreProperties>
</file>